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0D9-57E1-4F5E-A1FE-ECF0CE72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614-938E-4AED-AFA7-E3B99456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332-C0FF-4F97-B8C6-4D150A7B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875-A9D6-407C-BFC3-EBE68F96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A45-77DE-435B-85DA-B605C8D4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16A-4C9D-4A90-A537-4C70D50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C70-BC51-43DE-8C90-1D4B973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934-4ED3-406F-889B-2172A5D7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E64-0A90-4683-8961-62429B33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6C6-3693-4D36-966D-F04F509C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DEE-6FE2-4BD6-A4E7-3EC0011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3DA-9586-43AF-B160-18F856BF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71DD-6F22-4324-8314-52316C84F5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8284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riters Help Readers Paint Pictures in Their Min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y do this by 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howing, not Telling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35400" y="60595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rades 4 &amp;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26668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t the end of writing workshop, 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 will ask for a couple of volunteers to read their rewri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4114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verything Will Be Okay”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James Howe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When I Was Your Ag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00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ound a kitten.  I picked it up and petted it.  It purred.  I took it home.  I felt really protective of the ki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07080" y="3886200"/>
            <a:ext cx="13795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500"/>
                            </p:stCondLst>
                            <p:childTnLst>
                              <p:par>
                                <p:cTn id="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ays to Show Meaning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rough the Character’s Action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6668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uck the kitten under my jacket and run out of the w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rough the Character’s Dialogue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66688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worry,” I tell it, stroking its scabby head until the mewing is replaced by a faint purr.  “Everything will be okay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rough the Character’s Thought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666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el the warmth of the kitten through my shirt and start thinking of nam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rough Comparison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6668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ime I was alone.  Lucky for you I was, I think to the kitten.  Otherwise, David or Claude might have decided you’d be good practice for their slingsho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rough Descriptive Language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666880"/>
            <a:ext cx="66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tten is a scrawny thing with burrs and bits of wood caught in its hair, where it still has hair, and pus coming out of its eyes and n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238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Find a paragraph that you have written in your journal that you would like to rewrite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360" y="32767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n the page opposite your piece, rewrite the paragraph and try to 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how not tel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the reader what you want them to kn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4:46:34Z</dcterms:created>
  <dc:creator>AAPS</dc:creator>
  <dc:description/>
  <dc:language>en-US</dc:language>
  <cp:lastModifiedBy>Chuck Hatt</cp:lastModifiedBy>
  <dcterms:modified xsi:type="dcterms:W3CDTF">2005-08-24T10:31:56Z</dcterms:modified>
  <cp:revision>6</cp:revision>
  <dc:subject/>
  <dc:title>Writers help readers paint pictures in their mind.</dc:title>
</cp:coreProperties>
</file>